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6495-5327-44B3-B032-0DB951C41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ll intertwined. So why list the parts separa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ater in the round – framework as ligh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3EC0-7677-4C9C-83F3-0E13E2BE7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7204-9248-4B84-8873-B02E19C74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87F4-8951-4F96-A29D-641811F0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606D-EFEA-4341-B432-F08D72D1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B61B-36A7-4B0C-A3D3-759F9A75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CD34-DB65-415E-A533-6FB22AEED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C599-30DB-4B36-98F2-B6BB18A0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826F-5CCE-45A3-888F-CC030333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4993-16C9-40BE-AE0C-943AEDC5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F3C7-22A7-487A-8819-3F394EB9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AF49-2DEA-44F8-BAC1-AF578E4E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039B-F27C-4B1E-9D4C-C04E5B68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C228-FF7C-4933-80BD-DA28B388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A32F-3259-4EF0-9BF5-FAE41F55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1848-E944-407C-B64A-A6EBB3DA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4DB3-277D-47D8-B721-342EDFDD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6465-ACF0-4809-AFF3-DFA069AE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98CD-0944-45A7-A7EB-0A13F6AB8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3579-0276-4B05-B81F-6F897D4F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C43E-C406-4D01-9AE9-5AF0CA10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4A94-C783-4505-8468-D9701C44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EF6B-C57F-4753-9BAE-B134A9F8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B295-ED20-4B79-BBBF-4ECABC47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4A4E-1D5B-49E3-86C1-AF19D675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2C1A-2AC2-4011-B05C-967C9C96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eeec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Danielson Group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06FF-427B-4F46-A3F7-629E97B0B7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eeec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eeec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Danielson Group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5C33-33C8-45B7-BA8E-48002A22A2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ridgetdoogan@gmail.com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8800" y="914040"/>
            <a:ext cx="69343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1800" spc="-1" strike="noStrike">
                <a:solidFill>
                  <a:srgbClr val="bfbfbf"/>
                </a:solidFill>
                <a:latin typeface="Times New Roman"/>
              </a:rPr>
              <a:t>Implementing the  Professional Growth Process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948a54"/>
                </a:solidFill>
                <a:latin typeface="Times New Roman"/>
              </a:rPr>
              <a:t>Session 3</a:t>
            </a:r>
            <a:br>
              <a:rPr sz="2400"/>
            </a:b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Observing Teaching and Professional Conversations</a:t>
            </a:r>
            <a:br>
              <a:rPr sz="16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1200"/>
            </a:b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American International School-Riya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Saturday, 29 May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Bridget Doogan</a:t>
            </a:r>
            <a:br>
              <a:rPr sz="3200"/>
            </a:b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bridgetdoogan@gmail.com</a:t>
            </a:r>
            <a:br>
              <a:rPr sz="2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imes New Roman"/>
              </a:rPr>
              <a:t>Evidence</a:t>
            </a:r>
            <a:endParaRPr b="0" lang="en-US" sz="4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137" name="Diagram 4" descr=""/>
          <p:cNvPicPr/>
          <p:nvPr/>
        </p:nvPicPr>
        <p:blipFill>
          <a:blip r:embed="rId1"/>
          <a:stretch/>
        </p:blipFill>
        <p:spPr>
          <a:xfrm>
            <a:off x="1809720" y="1889280"/>
            <a:ext cx="6134040" cy="4097160"/>
          </a:xfrm>
          <a:prstGeom prst="rect">
            <a:avLst/>
          </a:prstGeom>
          <a:ln w="0">
            <a:noFill/>
          </a:ln>
        </p:spPr>
      </p:pic>
      <p:sp>
        <p:nvSpPr>
          <p:cNvPr id="138" name="Footer Placeholder 5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anielson Group,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anielson Group,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2"/>
          <p:cNvSpPr/>
          <p:nvPr/>
        </p:nvSpPr>
        <p:spPr>
          <a:xfrm>
            <a:off x="3276720" y="5715000"/>
            <a:ext cx="60948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3"/>
          <p:cNvSpPr/>
          <p:nvPr/>
        </p:nvSpPr>
        <p:spPr>
          <a:xfrm>
            <a:off x="1600200" y="3809880"/>
            <a:ext cx="60948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4"/>
          <p:cNvSpPr/>
          <p:nvPr/>
        </p:nvSpPr>
        <p:spPr>
          <a:xfrm>
            <a:off x="762120" y="1752480"/>
            <a:ext cx="60948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AutoShape 5"/>
          <p:cNvCxnSpPr/>
          <p:nvPr/>
        </p:nvCxnSpPr>
        <p:spPr>
          <a:xfrm flipV="1">
            <a:off x="1371600" y="1142640"/>
            <a:ext cx="602064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AutoShape 6"/>
          <p:cNvCxnSpPr/>
          <p:nvPr/>
        </p:nvCxnSpPr>
        <p:spPr>
          <a:xfrm flipV="1">
            <a:off x="2209680" y="1294920"/>
            <a:ext cx="5029920" cy="280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AutoShape 7"/>
          <p:cNvCxnSpPr/>
          <p:nvPr/>
        </p:nvCxnSpPr>
        <p:spPr>
          <a:xfrm flipV="1">
            <a:off x="3785760" y="1219320"/>
            <a:ext cx="3644280" cy="459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" name="AutoShape 8"/>
          <p:cNvSpPr/>
          <p:nvPr/>
        </p:nvSpPr>
        <p:spPr>
          <a:xfrm>
            <a:off x="1371600" y="1143000"/>
            <a:ext cx="304920" cy="38088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240" bIns="-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685800" y="990720"/>
            <a:ext cx="304920" cy="38088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240" bIns="-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2590920" y="2057400"/>
            <a:ext cx="304560" cy="38088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240" bIns="-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1676520" y="2362320"/>
            <a:ext cx="304560" cy="38088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240" bIns="-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2057400" y="2971800"/>
            <a:ext cx="304920" cy="38088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240" bIns="-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3"/>
          <p:cNvSpPr/>
          <p:nvPr/>
        </p:nvSpPr>
        <p:spPr>
          <a:xfrm>
            <a:off x="990720" y="2971800"/>
            <a:ext cx="304560" cy="38088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240" bIns="-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4"/>
          <p:cNvSpPr/>
          <p:nvPr/>
        </p:nvSpPr>
        <p:spPr>
          <a:xfrm>
            <a:off x="2971800" y="2819520"/>
            <a:ext cx="304920" cy="38088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240" bIns="-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5"/>
          <p:cNvSpPr/>
          <p:nvPr/>
        </p:nvSpPr>
        <p:spPr>
          <a:xfrm>
            <a:off x="2209680" y="4495680"/>
            <a:ext cx="304920" cy="38124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6"/>
          <p:cNvSpPr/>
          <p:nvPr/>
        </p:nvSpPr>
        <p:spPr>
          <a:xfrm>
            <a:off x="1143000" y="4572000"/>
            <a:ext cx="304920" cy="38088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240" bIns="-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7"/>
          <p:cNvSpPr/>
          <p:nvPr/>
        </p:nvSpPr>
        <p:spPr>
          <a:xfrm>
            <a:off x="2743200" y="3809880"/>
            <a:ext cx="304920" cy="38124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8"/>
          <p:cNvSpPr/>
          <p:nvPr/>
        </p:nvSpPr>
        <p:spPr>
          <a:xfrm>
            <a:off x="609480" y="3809880"/>
            <a:ext cx="304920" cy="38124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9"/>
          <p:cNvSpPr/>
          <p:nvPr/>
        </p:nvSpPr>
        <p:spPr>
          <a:xfrm>
            <a:off x="2971800" y="4495680"/>
            <a:ext cx="304920" cy="38124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0"/>
          <p:cNvSpPr/>
          <p:nvPr/>
        </p:nvSpPr>
        <p:spPr>
          <a:xfrm>
            <a:off x="1600200" y="5105520"/>
            <a:ext cx="304920" cy="38088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240" bIns="-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1"/>
          <p:cNvSpPr/>
          <p:nvPr/>
        </p:nvSpPr>
        <p:spPr>
          <a:xfrm>
            <a:off x="2286000" y="5638680"/>
            <a:ext cx="304920" cy="38124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2"/>
          <p:cNvSpPr/>
          <p:nvPr/>
        </p:nvSpPr>
        <p:spPr>
          <a:xfrm>
            <a:off x="1066680" y="5715000"/>
            <a:ext cx="304920" cy="38088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240" bIns="-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3"/>
          <p:cNvSpPr/>
          <p:nvPr/>
        </p:nvSpPr>
        <p:spPr>
          <a:xfrm>
            <a:off x="2819520" y="5181480"/>
            <a:ext cx="304560" cy="38124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809880" y="4038480"/>
            <a:ext cx="304920" cy="38124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5"/>
          <p:cNvSpPr/>
          <p:nvPr/>
        </p:nvSpPr>
        <p:spPr>
          <a:xfrm>
            <a:off x="685800" y="5029200"/>
            <a:ext cx="304920" cy="38088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240" bIns="-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6"/>
          <p:cNvSpPr/>
          <p:nvPr/>
        </p:nvSpPr>
        <p:spPr>
          <a:xfrm>
            <a:off x="4419720" y="5562720"/>
            <a:ext cx="304560" cy="38088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240" bIns="-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7"/>
          <p:cNvSpPr/>
          <p:nvPr/>
        </p:nvSpPr>
        <p:spPr>
          <a:xfrm>
            <a:off x="228600" y="2286000"/>
            <a:ext cx="304920" cy="38088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240" bIns="-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8"/>
          <p:cNvSpPr/>
          <p:nvPr/>
        </p:nvSpPr>
        <p:spPr>
          <a:xfrm>
            <a:off x="1523880" y="3352680"/>
            <a:ext cx="304920" cy="38124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9"/>
          <p:cNvSpPr/>
          <p:nvPr/>
        </p:nvSpPr>
        <p:spPr>
          <a:xfrm>
            <a:off x="304920" y="3124080"/>
            <a:ext cx="304560" cy="38124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0"/>
          <p:cNvSpPr/>
          <p:nvPr/>
        </p:nvSpPr>
        <p:spPr>
          <a:xfrm>
            <a:off x="2209680" y="1447920"/>
            <a:ext cx="304920" cy="38088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240" bIns="-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1"/>
          <p:cNvSpPr/>
          <p:nvPr/>
        </p:nvSpPr>
        <p:spPr>
          <a:xfrm>
            <a:off x="914400" y="1905120"/>
            <a:ext cx="304920" cy="380880"/>
          </a:xfrm>
          <a:prstGeom prst="sun">
            <a:avLst>
              <a:gd name="adj" fmla="val 4687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240" bIns="-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2"/>
          <p:cNvSpPr/>
          <p:nvPr/>
        </p:nvSpPr>
        <p:spPr>
          <a:xfrm>
            <a:off x="1752480" y="3962520"/>
            <a:ext cx="304920" cy="38088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240" bIns="-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3"/>
          <p:cNvSpPr/>
          <p:nvPr/>
        </p:nvSpPr>
        <p:spPr>
          <a:xfrm>
            <a:off x="3429000" y="5867280"/>
            <a:ext cx="304920" cy="38124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34"/>
          <p:cNvSpPr/>
          <p:nvPr/>
        </p:nvSpPr>
        <p:spPr>
          <a:xfrm>
            <a:off x="7772400" y="1600200"/>
            <a:ext cx="762120" cy="3429000"/>
          </a:xfrm>
          <a:prstGeom prst="downArrow">
            <a:avLst>
              <a:gd name="adj1" fmla="val 50000"/>
              <a:gd name="adj2" fmla="val 112482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5"/>
          <p:cNvSpPr/>
          <p:nvPr/>
        </p:nvSpPr>
        <p:spPr>
          <a:xfrm>
            <a:off x="7543800" y="5257800"/>
            <a:ext cx="1295280" cy="1066680"/>
          </a:xfrm>
          <a:prstGeom prst="wedgeEllipseCallout">
            <a:avLst>
              <a:gd name="adj1" fmla="val -31986"/>
              <a:gd name="adj2" fmla="val 55652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6"/>
          <p:cNvSpPr/>
          <p:nvPr/>
        </p:nvSpPr>
        <p:spPr>
          <a:xfrm>
            <a:off x="6095880" y="5486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d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7"/>
          <p:cNvSpPr/>
          <p:nvPr/>
        </p:nvSpPr>
        <p:spPr>
          <a:xfrm>
            <a:off x="3581280" y="1676520"/>
            <a:ext cx="3048120" cy="1341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urate and unbia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v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resentative of the 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38"/>
          <p:cNvGrpSpPr/>
          <p:nvPr/>
        </p:nvGrpSpPr>
        <p:grpSpPr>
          <a:xfrm>
            <a:off x="7620120" y="533520"/>
            <a:ext cx="990360" cy="838080"/>
            <a:chOff x="7620120" y="533520"/>
            <a:chExt cx="990360" cy="838080"/>
          </a:xfrm>
        </p:grpSpPr>
        <p:sp>
          <p:nvSpPr>
            <p:cNvPr id="177" name="AutoShape 39"/>
            <p:cNvSpPr/>
            <p:nvPr/>
          </p:nvSpPr>
          <p:spPr>
            <a:xfrm>
              <a:off x="7620120" y="533520"/>
              <a:ext cx="990360" cy="838080"/>
            </a:xfrm>
            <a:prstGeom prst="foldedCorner">
              <a:avLst>
                <a:gd name="adj" fmla="val 125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40"/>
            <p:cNvSpPr/>
            <p:nvPr/>
          </p:nvSpPr>
          <p:spPr>
            <a:xfrm>
              <a:off x="7696080" y="6858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spect and Rappor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9" name="AutoShape 41"/>
          <p:cNvCxnSpPr/>
          <p:nvPr/>
        </p:nvCxnSpPr>
        <p:spPr>
          <a:xfrm flipV="1">
            <a:off x="1294920" y="533160"/>
            <a:ext cx="4420440" cy="13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80" name="Group 42"/>
          <p:cNvGrpSpPr/>
          <p:nvPr/>
        </p:nvGrpSpPr>
        <p:grpSpPr>
          <a:xfrm>
            <a:off x="5715000" y="152280"/>
            <a:ext cx="1143000" cy="609840"/>
            <a:chOff x="5715000" y="152280"/>
            <a:chExt cx="1143000" cy="609840"/>
          </a:xfrm>
        </p:grpSpPr>
        <p:sp>
          <p:nvSpPr>
            <p:cNvPr id="181" name="AutoShape 43"/>
            <p:cNvSpPr/>
            <p:nvPr/>
          </p:nvSpPr>
          <p:spPr>
            <a:xfrm>
              <a:off x="5791320" y="152280"/>
              <a:ext cx="990360" cy="609840"/>
            </a:xfrm>
            <a:prstGeom prst="foldedCorner">
              <a:avLst>
                <a:gd name="adj" fmla="val 125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4"/>
            <p:cNvSpPr/>
            <p:nvPr/>
          </p:nvSpPr>
          <p:spPr>
            <a:xfrm>
              <a:off x="5715000" y="3049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Questioning and Discuss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45"/>
          <p:cNvSpPr/>
          <p:nvPr/>
        </p:nvSpPr>
        <p:spPr>
          <a:xfrm>
            <a:off x="6477120" y="32767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6"/>
          <p:cNvSpPr/>
          <p:nvPr/>
        </p:nvSpPr>
        <p:spPr>
          <a:xfrm>
            <a:off x="228600" y="380880"/>
            <a:ext cx="47242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evid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imes New Roman"/>
              </a:rPr>
              <a:t>Observations as Evidence</a:t>
            </a:r>
            <a:endParaRPr b="0" lang="en-US" sz="4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140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s and statements by teacher or stud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ions of enga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lectual challenge of activities and assig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on among teachers/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 of the classroo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5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anielson Group,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imes New Roman"/>
              </a:rPr>
              <a:t>Artifacts as Evidence</a:t>
            </a:r>
            <a:endParaRPr b="0" lang="en-US" sz="4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ifa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s, plans, organizational tools and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materi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s of student 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5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anielson Group,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Observing the Lesson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video paying particular attention to what the students are do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f81b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ons and statements by teacher or stud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f81b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s  - write them 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f81b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cations of engage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f81b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llectual challenge of activities and assig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f81b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action among teachers/stud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f81b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s of the classr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the tool you would like to use to recor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oter Placeholder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anielson Group,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The Big Ideas of Teaching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195" name="Content Placeholder 3" descr="Talk About Teaching.jpg"/>
          <p:cNvPicPr/>
          <p:nvPr/>
        </p:nvPicPr>
        <p:blipFill>
          <a:blip r:embed="rId1"/>
          <a:stretch/>
        </p:blipFill>
        <p:spPr>
          <a:xfrm>
            <a:off x="1600200" y="1905120"/>
            <a:ext cx="2705040" cy="3859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4876920" y="1828800"/>
            <a:ext cx="39621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lotte Danielson’s  New Boo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 About Teaching: Leading Professional Conversations. Corwin Press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Opportunities for Professional Conversation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reflective conversations, following an observation, associated with performance appraisal, with an evaluator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 variation; a conversation with a mentor, in “preparation” for a formal observ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ching conversation, with mentors, peer coaches, or administ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l professional conversations, following an un-announced, “drop-in” ob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Formal Reflective Conversations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evidence of practice according to established standards of practice, e.g.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framework for 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by the administ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s per the district’s polic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hould promote self-assessment and reflection on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Formal Reflective Conversations (cont)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etter proced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700"/>
              </a:spcAft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or observes the lesson; takes notes; considers evidence against the teaching standards; makes preliminary interpre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700"/>
              </a:spcAft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 also considers events of the lesson in light of the standards; interprets evidence against the levels of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700"/>
              </a:spcAft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 and evaluator compare notes; summarize strengths and areas for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Limitations of Feedback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ne regards teaching as a cognitive activity, then the conversation must be about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g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back as normally offered feels judgmental, even condescending, patron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ful conversations about teaching are centered on asking questions and solving problems, rather than on feedback, convey professional resp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anielson Group,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Today’s Outcomes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domains, components and elements of the Framework for Teaching in prac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methods of recording, coding, and sorting observ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valid conclusions about performance using the new guidelines for observation and scoring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it the conventions of professional convers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the issues surrounding trust, power and leadership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anielson Group,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Coaching Conversations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“another set of eyes” for a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by the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lexible, according to local conditions and schedul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romote teacher self-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Informal Professional Conversations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 student achievement by promoting rigorous and engaging learning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by the administrator or mentor/c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lexible, based on time available for informal observations of teach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Engage teachers in problem-solving conver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Conversation Skills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used in all three types of conver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ing ra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positive presup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ing and Sustaining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 skill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araphras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rob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larif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Charlotte Danielson on </a:t>
            </a:r>
            <a:br>
              <a:rPr sz="3600"/>
            </a:b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Conversation Skills  - Jigsaw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your table group number yourselves 1- 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f 1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ing ra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positive presup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iting and Sustaining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guistic skills: paraphrasing; probing; clarif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1s gather together. All 2s, 3s and 4s do the same to form expert groups of lik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 read their topic section and discu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s decide what key ideas they will share back at their hom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to home group and sh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anielson Group,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Today’s Agenda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come/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aging with the F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ing, coding and sc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ation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 and pow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anielson Group,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Today’s Agenda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:15-8:30               Coffee &amp; sn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:30-10:00              Progress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-depth understanding of the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00-10:30            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30-11:30            Video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:30-12:00            Lu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:00-12:30            Video Observations 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:30-2:15              Coaching convers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anielson Group,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Working Agreements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 time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y on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 a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anielson Group,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ramework for Teaching Charlotte Daniel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The Framework for Teaching</a:t>
            </a:r>
            <a:br>
              <a:rPr sz="3600"/>
            </a:br>
            <a:r>
              <a:rPr b="0" lang="en-US" sz="2800" spc="-1" strike="noStrike">
                <a:solidFill>
                  <a:srgbClr val="1f497d"/>
                </a:solidFill>
                <a:latin typeface="Times New Roman"/>
              </a:rPr>
              <a:t>Second Edition</a:t>
            </a: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838080" y="1600200"/>
            <a:ext cx="7848720" cy="4336560"/>
            <a:chOff x="838080" y="1600200"/>
            <a:chExt cx="7848720" cy="4336560"/>
          </a:xfrm>
        </p:grpSpPr>
        <p:sp>
          <p:nvSpPr>
            <p:cNvPr id="122" name="Rectangle 5"/>
            <p:cNvSpPr/>
            <p:nvPr/>
          </p:nvSpPr>
          <p:spPr>
            <a:xfrm>
              <a:off x="838080" y="3657600"/>
              <a:ext cx="3886200" cy="22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omain 3:  Instr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municating With Stud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ing Questioning and Discuss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chniq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gaging Students in Lear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ing Assessment in Instr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monstrating Flexibility and   Responsiven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6"/>
            <p:cNvSpPr/>
            <p:nvPr/>
          </p:nvSpPr>
          <p:spPr>
            <a:xfrm>
              <a:off x="4800600" y="3657600"/>
              <a:ext cx="36576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7"/>
            <p:cNvSpPr/>
            <p:nvPr/>
          </p:nvSpPr>
          <p:spPr>
            <a:xfrm>
              <a:off x="838080" y="1600200"/>
              <a:ext cx="3962520" cy="203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omain 1:  Planning and Prepa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monstrating Knowledge of  Content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d Pedagog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monstrating Knowledge of Stud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tting Instructional Outcom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monstrating Knowledge of 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igning Coherent Instr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igning Student Assess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8"/>
            <p:cNvSpPr/>
            <p:nvPr/>
          </p:nvSpPr>
          <p:spPr>
            <a:xfrm>
              <a:off x="4800600" y="1600200"/>
              <a:ext cx="3886200" cy="203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omain 2:  The Classroom Environ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reating an Environment of Respect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d Rappo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stablishing a Culture for Lear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naging Classroom Procedu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naging Student Behavi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rganizing Physical 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9"/>
          <p:cNvSpPr/>
          <p:nvPr/>
        </p:nvSpPr>
        <p:spPr>
          <a:xfrm>
            <a:off x="4800600" y="3618000"/>
            <a:ext cx="40384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main 4:  Professional Responsi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lecting on Te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aining Accurate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ng with Fami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ating in a Professional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ing and Developing Professio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wing Professionalis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Directions for the Card Sort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rrange yourselves into two groups of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he cards evenly among the group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the colors me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he colors evenly among group me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r up by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anielson Group,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Directions for the Card Sort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the scenario on each of your cards and  identify the </a:t>
            </a: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om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compon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l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which it is most closely related.  Refer to your component summary sh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80008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it on a post-it and stick it on the c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b0f0"/>
                </a:solidFill>
                <a:latin typeface="Arial"/>
              </a:rPr>
              <a:t>Please do not write on the card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anielson Group,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Watching Video Clips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video paying particular attention to what the students are do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which of the “big ideas” are in evidence in the cl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 an initial question for the teac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anielson Group,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00:00:14Z</dcterms:created>
  <dc:creator>Charlotte Danielson</dc:creator>
  <dc:description/>
  <dc:language>en-US</dc:language>
  <cp:lastModifiedBy>MY HP</cp:lastModifiedBy>
  <dcterms:modified xsi:type="dcterms:W3CDTF">2010-05-29T05:09:28Z</dcterms:modified>
  <cp:revision>114</cp:revision>
  <dc:subject/>
  <dc:title>The Framework for Teacher Leadership</dc:title>
</cp:coreProperties>
</file>